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2.gif" ContentType="image/gif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7.jpeg" ContentType="image/jpeg"/>
  <Override PartName="/ppt/media/image4.jpeg" ContentType="image/jpeg"/>
  <Override PartName="/ppt/media/image10.wmf" ContentType="image/x-wmf"/>
  <Override PartName="/ppt/media/image13.png" ContentType="image/png"/>
  <Override PartName="/ppt/media/image1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D13F-99B9-473E-A389-700701F7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272A-CE33-4CB8-8CD5-D6563E25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A408-198A-46E6-86A1-63EF6885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2DE1-ACE0-4984-B1D5-EE422EAB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527E-CE2B-4B53-A165-71D86D10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A4FD-32CE-46AD-91F0-E52BBE60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067E-9B41-4C2B-98D4-51518CDB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30EB-62C8-48F0-B7BC-45E1172F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1DEC-0F0F-4222-9CED-BEC3B6C6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B7D9-266D-4F98-9C79-8AAFE1A6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71A-A394-42A8-8A22-6D18AD19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A2A2-680E-43C2-B59B-B9DEE73E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ADDE-8279-4B14-97AD-4988423C01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4005360"/>
            <a:ext cx="2737080" cy="2089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620280"/>
            <a:ext cx="8062920" cy="29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</a:t>
            </a:r>
            <a:br>
              <a:rPr sz="4000"/>
            </a:br>
            <a:br>
              <a:rPr sz="4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РЕД КУРЕНИ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ченица 5 класса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КУ Таскинской ООШ Виселкова Ан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0" y="51577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ломай сигарету, п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игарета не сломала твою жиз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113440" y="2060640"/>
            <a:ext cx="4030560" cy="2876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54-54\Desktop\1248379489_7.jpeg"/>
          <p:cNvPicPr/>
          <p:nvPr/>
        </p:nvPicPr>
        <p:blipFill>
          <a:blip r:embed="rId2"/>
          <a:stretch/>
        </p:blipFill>
        <p:spPr>
          <a:xfrm>
            <a:off x="0" y="1557360"/>
            <a:ext cx="4896000" cy="3571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stop smoking"/>
          <p:cNvPicPr/>
          <p:nvPr/>
        </p:nvPicPr>
        <p:blipFill>
          <a:blip r:embed="rId3"/>
          <a:stretch/>
        </p:blipFill>
        <p:spPr>
          <a:xfrm>
            <a:off x="0" y="5589720"/>
            <a:ext cx="428472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следов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люди начинают кури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зна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рвнич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каким причинам курят подростки (юноши и девушки)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лохая компания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Хотят выглядеть взрослей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Интересно, быть круты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сли я курю, то вредно ли это окружающи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е зна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да вред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бросить курить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братиться к специалист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ужна сила во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упить таблет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8200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ходя из социологических  опросов, можно сделать вывод, что информация о вреде курения  широко распространена. Люди не до  конца оценивают последствия табакокурения, тем самым наносят себе огромный вре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и вообще не задумываются  на эту тему. Многие подростки не осознают всей опасности, которую таит в себе курение, в том числе пассив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исследовании была предпринята попытка выяснить уровень осведомленности подростков относительно курения, его вреда для здоровья и провоцируемых им болез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принял решение, что курение - это медленное   самоубийство и лучше не начинать, даже не пробова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9" descr="big.gif"/>
          <p:cNvPicPr/>
          <p:nvPr/>
        </p:nvPicPr>
        <p:blipFill>
          <a:blip r:embed="rId1"/>
          <a:stretch/>
        </p:blipFill>
        <p:spPr>
          <a:xfrm>
            <a:off x="6084720" y="4581360"/>
            <a:ext cx="1908360" cy="19083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3" descr="104033_22526_600.jpg"/>
          <p:cNvPicPr/>
          <p:nvPr/>
        </p:nvPicPr>
        <p:blipFill>
          <a:blip r:embed="rId2"/>
          <a:stretch/>
        </p:blipFill>
        <p:spPr>
          <a:xfrm>
            <a:off x="971640" y="4797360"/>
            <a:ext cx="24480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C:\Users\user\Pictures\stop-tabak.gif"/>
          <p:cNvPicPr/>
          <p:nvPr/>
        </p:nvPicPr>
        <p:blipFill>
          <a:blip r:embed="rId1"/>
          <a:srcRect l="0" t="0" r="0" b="17007"/>
          <a:stretch/>
        </p:blipFill>
        <p:spPr>
          <a:xfrm>
            <a:off x="0" y="333360"/>
            <a:ext cx="4546440" cy="6524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97560" y="549360"/>
            <a:ext cx="4546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нять и доказать, что курение вредит здоровью человека, сокращает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Пропаганда здорового образа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448164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187280" y="3068640"/>
            <a:ext cx="633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ъект исслед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4653000"/>
            <a:ext cx="59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Курен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редит здор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гативно влияет на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16000" y="4076640"/>
            <a:ext cx="705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ипотеза исслед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3080" y="3429000"/>
            <a:ext cx="46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Здоровь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280" y="1341000"/>
            <a:ext cx="821844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ить отношение детей и взрослых к проблеме табакоку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анализировать научную информ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ь, к каким последствиям ведёт ку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новить, что курение вредит здо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835280" y="333360"/>
            <a:ext cx="626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и исслед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27640" y="4821120"/>
            <a:ext cx="259236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нализ научн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равнение полученных результа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12000" y="2349360"/>
            <a:ext cx="259236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Курение или 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здоровье – 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      выбирайте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сами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2997360"/>
            <a:ext cx="8302680" cy="35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 данным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Всемирной организации здравоохранения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бака умирает каждый пяты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ждый день в России из-за болезней, вызванных курением табака, умирает тысяча человек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31482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52480" y="54900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21400" y="1125360"/>
            <a:ext cx="4422600" cy="5185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ww.xpomo.com/ruskolan/images/tabak-02.jpg"/>
          <p:cNvPicPr/>
          <p:nvPr/>
        </p:nvPicPr>
        <p:blipFill>
          <a:blip r:embed="rId2"/>
          <a:stretch/>
        </p:blipFill>
        <p:spPr>
          <a:xfrm>
            <a:off x="0" y="3429000"/>
            <a:ext cx="428616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76360" y="0"/>
            <a:ext cx="6480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04640"/>
            <a:ext cx="521964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ям свойственно подражание взрослым. Причиной курения мальчиков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8 – 9 ле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лось: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лия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оварищей – в 26,8% случаев,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любопыт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 23,2%,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баловств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в 17,8%,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одраж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зрослым – в 16,7% случа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ростки в процессе подготовки к вступлению во «взрослую жизнь» усваивают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«взрослые нормы» пове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том числе и курение. Подростки видят в курении признак самостоятельности, взрослости. Курение в компании становится своего рода обязанностью, ритуалом, средством к сплоче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333360"/>
            <a:ext cx="44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ричины ку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5084640"/>
            <a:ext cx="83628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Если ты не закуришь в школ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то есть вероятность, что 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не закуришь никогда!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9" descr="j0289289"/>
          <p:cNvPicPr/>
          <p:nvPr/>
        </p:nvPicPr>
        <p:blipFill>
          <a:blip r:embed="rId1"/>
          <a:stretch/>
        </p:blipFill>
        <p:spPr>
          <a:xfrm>
            <a:off x="0" y="1268280"/>
            <a:ext cx="5148360" cy="3443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>
            <a:off x="5217480" y="1341360"/>
            <a:ext cx="392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то происходит при курении: воздух при затяжке табаком нагревается до высокой температуры и извлекает из него различные вещества, которые вместе с дымом поступают в легкие. Трудно даже перечислить вредные вещества, содержащиеся в табаке, их насчитали более 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183280" y="4457880"/>
            <a:ext cx="3960720" cy="2400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68360" y="4435560"/>
            <a:ext cx="34560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курящих людей быстрее разрушаются зубы, желтеет зубная эмаль, а полость рта издаёт специфический зап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рганизм вместе со слюной попадают ядовитые вещества которые содержатся в дыме, что приводит к болям в желудке: гастритам, к язве желу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тоянное курение сопровождается бронхитом, в итоги снижается сопротивляемость лёгких к инфекционным заболеваниям, к туберкулез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результате поступления дыма в кровь, вместо обогащения кислородом, насыщается угарным газом. Наступает кислородное голодание в результате чего страдают нервная система и сердц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икоти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ключается в процессы обмена,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сходящие в организме человека, 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новится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еобходимы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05:22:12Z</dcterms:created>
  <dc:creator>USER</dc:creator>
  <dc:description/>
  <dc:language>en-US</dc:language>
  <cp:lastModifiedBy>Пользователь</cp:lastModifiedBy>
  <dcterms:modified xsi:type="dcterms:W3CDTF">2019-05-13T00:53:45Z</dcterms:modified>
  <cp:revision>10</cp:revision>
  <dc:subject/>
  <dc:title>Слайд 1</dc:title>
</cp:coreProperties>
</file>